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49A7-582E-455A-AEA7-0C51E3C2CC2E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AE5A-BE2B-46F4-8D00-60EDDFCB3A72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333399"/>
              </a:solidFill>
              <a:latin typeface="Palatino Linotyp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028C-09D1-4245-94E1-082917E41DA8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C43A-BD8B-4116-8163-E0D708578CAF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9F81-C19D-47B7-948D-7D17E06D8C4A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</a:t>
            </a: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 грађ</a:t>
            </a: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925E-356E-482D-88A0-641960664548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59A7-5478-40FE-B3B2-55DBBEE1390B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51D2-454C-4FCC-90D4-B3A0C186D857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8580-5178-4943-B5D9-FE01FE6D9A78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7781-ED92-4E5B-A883-970BB1C6CF1C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DF8B-A403-450E-9265-17AF5DAA30BD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3295-A8AD-4005-BD7D-DCD93DD05E98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7F32-7E39-49A9-B1F6-199BE3A6C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9A5A-E615-43F4-8F61-E2B3EA00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D621-558F-4E0C-8A0F-BFB336A19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9BF8-E5AF-40EA-8B33-73CDCCE54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B5ED-1244-466B-A1CC-80C97329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2664-DA0A-4543-B673-9087984B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C768-D62F-4643-9EEC-E711267A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AE27-96FB-48EB-8EB2-F5DD7F12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5520" y="122040"/>
            <a:ext cx="8261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A5DD-A3A9-4971-B15C-D7378729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EC22-CDB7-4049-9CE5-6B37D920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B0B1-65AF-4F9F-84AE-C9096229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9656-9664-4711-8385-7FB6C41B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05200"/>
            <a:ext cx="289584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Инфор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9720" y="6505200"/>
            <a:ext cx="213372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6663-E512-4C3A-B259-D96954314B9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3720" y="1268280"/>
            <a:ext cx="8218800" cy="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423720" y="1312920"/>
            <a:ext cx="418644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2"/>
          <p:cNvSpPr/>
          <p:nvPr/>
        </p:nvSpPr>
        <p:spPr>
          <a:xfrm>
            <a:off x="0" y="6424560"/>
            <a:ext cx="3836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76F3-99AD-4269-A508-D6847B4BAA4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05380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66"/>
                </a:solidFill>
                <a:latin typeface="Palatino Linotype"/>
              </a:rPr>
              <a:t>ХИРУРШ</a:t>
            </a:r>
            <a:r>
              <a:rPr b="1" lang="sr-Latn-CS" sz="4000" spc="-1" strike="noStrike">
                <a:solidFill>
                  <a:srgbClr val="000066"/>
                </a:solidFill>
                <a:latin typeface="Palatino Linotype"/>
              </a:rPr>
              <a:t>K</a:t>
            </a:r>
            <a:r>
              <a:rPr b="1" lang="sr-CS" sz="4000" spc="-1" strike="noStrike">
                <a:solidFill>
                  <a:srgbClr val="000066"/>
                </a:solidFill>
                <a:latin typeface="Palatino Linotype"/>
              </a:rPr>
              <a:t>И ПОСТУПЦИ У ЦИЉУ ОРТОДОНТСКОГ ЛЕЧЕЊА</a:t>
            </a: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    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1120" y="4060440"/>
            <a:ext cx="864252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Назив предмета: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9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Час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 25- 27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Тематске јединице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Вађење зуба из ортодонтских  разлога, корекција дијастеме сталних 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зуба, третман неизниклих зуба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                  </a:t>
            </a:r>
            <a:r>
              <a:rPr b="0" lang="fr-FR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Припремио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i="1" lang="sr-CS" sz="1400" spc="-1" strike="noStrike">
                <a:solidFill>
                  <a:srgbClr val="000000"/>
                </a:solidFill>
                <a:latin typeface="Palatino Linotype"/>
              </a:rPr>
              <a:t>Доц. др Мирослав Васовић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6" name="Line 4"/>
          <p:cNvSpPr/>
          <p:nvPr/>
        </p:nvSpPr>
        <p:spPr>
          <a:xfrm>
            <a:off x="936720" y="3838680"/>
            <a:ext cx="4782960" cy="1440"/>
          </a:xfrm>
          <a:prstGeom prst="line">
            <a:avLst/>
          </a:prstGeom>
          <a:ln w="38160">
            <a:solidFill>
              <a:srgbClr val="fee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0"/>
            <a:ext cx="9144000" cy="19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0" y="1995480"/>
            <a:ext cx="9144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84280" y="6180120"/>
            <a:ext cx="786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Copyright © 201</a:t>
            </a:r>
            <a:r>
              <a:rPr b="0" lang="sr-RS" sz="1000" spc="-1" strike="noStrike">
                <a:solidFill>
                  <a:srgbClr val="000000"/>
                </a:solidFill>
                <a:latin typeface="Palatino Linotype"/>
              </a:rPr>
              <a:t>9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– Факултет медицинских наука Универзитета у Крагујевцу. Копирање и умножавање није дозвољено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memo grb copy"/>
          <p:cNvPicPr/>
          <p:nvPr/>
        </p:nvPicPr>
        <p:blipFill>
          <a:blip r:embed="rId1"/>
          <a:stretch/>
        </p:blipFill>
        <p:spPr>
          <a:xfrm>
            <a:off x="209520" y="166680"/>
            <a:ext cx="8737560" cy="16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3"/>
          <p:cNvSpPr/>
          <p:nvPr/>
        </p:nvSpPr>
        <p:spPr>
          <a:xfrm>
            <a:off x="0" y="6438960"/>
            <a:ext cx="3921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68CC-E411-4BB8-9089-9B79470E878C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690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рекција дијастеме стал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444600" y="1647720"/>
            <a:ext cx="8194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ФРЕНЕКТОМ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абијални френулум је мишићно-фиброзна тракаста творевина прекривена слузокожом, која припаја мимичну мускулатуру горње или доње усне за алвеоларни гребен између централних секутић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C:\Users\Zoran\Downloads\oralna hirurgija\slike\images (8).jpg"/>
          <p:cNvPicPr/>
          <p:nvPr/>
        </p:nvPicPr>
        <p:blipFill>
          <a:blip r:embed="rId1"/>
          <a:stretch/>
        </p:blipFill>
        <p:spPr>
          <a:xfrm>
            <a:off x="2481120" y="3433680"/>
            <a:ext cx="387216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0" y="6424560"/>
            <a:ext cx="3809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636C-BF47-4A2B-85A2-B5649CD08F1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7180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рекција дијастеме стал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444600" y="1623960"/>
            <a:ext cx="81817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C:\Users\Zoran\Downloads\oralna hirurgija\slike\download (35).jpg"/>
          <p:cNvPicPr/>
          <p:nvPr/>
        </p:nvPicPr>
        <p:blipFill>
          <a:blip r:embed="rId1"/>
          <a:stretch/>
        </p:blipFill>
        <p:spPr>
          <a:xfrm>
            <a:off x="2608200" y="1803240"/>
            <a:ext cx="4025880" cy="442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0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Уклањање сметњи за ницање стал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18" name="Date Placeholder 3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74B4-7C58-4301-B095-3B4734C4A4C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444600" y="1528920"/>
            <a:ext cx="82659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злози за задржаност зуба у вилици могу бити општи и локал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Општи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: рахитис, дисфункција ендокриних жлезда, неухрањеност и неки генетски синдроми ( клеидокранијална дистоза, Гролин –Голцов синдром, Гарднеров синдром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Локални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: много су чешћи, нарочито неправилност оклузије и присуство прекобројних зуба, одонтоми, ерупционе цисте, пререани губитак млечног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Без обзира на разлог задржаности зуба ,императив модерне стоматологије подразумева хируршки поступак којим се помаже ницање неизниклог зуба, који се првенствено састоји у нуклањању препреке за ницање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Уклањање сметњи за ницање стал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0" y="6424560"/>
            <a:ext cx="4059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8107-9D00-4E31-B16E-F8B97B5A550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433440" y="1636560"/>
            <a:ext cx="8205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ВАЂЕЊЕ ПРЕКОБРОЈНИХ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јчешћи прекобројни зуб је 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мезиоденс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, локализован испод или између централних секутића. (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парапремолари, парамолари и дистомолари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C:\Users\Zoran\Downloads\oralna hirurgija\slike\download (33).jpg"/>
          <p:cNvPicPr/>
          <p:nvPr/>
        </p:nvPicPr>
        <p:blipFill>
          <a:blip r:embed="rId1"/>
          <a:stretch/>
        </p:blipFill>
        <p:spPr>
          <a:xfrm>
            <a:off x="1081080" y="3367080"/>
            <a:ext cx="2203560" cy="2916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C:\Users\Zoran\Downloads\oralna hirurgija\slike\download (31).jpg"/>
          <p:cNvPicPr/>
          <p:nvPr/>
        </p:nvPicPr>
        <p:blipFill>
          <a:blip r:embed="rId2"/>
          <a:stretch/>
        </p:blipFill>
        <p:spPr>
          <a:xfrm>
            <a:off x="4648320" y="3900600"/>
            <a:ext cx="33559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Уклањање сметњи за ницање стал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30" name="Date Placeholder 3"/>
          <p:cNvSpPr/>
          <p:nvPr/>
        </p:nvSpPr>
        <p:spPr>
          <a:xfrm>
            <a:off x="0" y="6424560"/>
            <a:ext cx="3795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1DBC-9AEC-4968-AAA8-B27BA08305D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480960" y="2117880"/>
            <a:ext cx="8182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ретман прекобројних зуба се састоји у њиховом хируршком уклањању, које треба извршити што пре, док постоји потенцијал ницања сталног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 екстракције зуба, неопходно је одредити његов тачан положај у односу на суседне сталне зубе, радиографском методом и клиничким преглед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Хируршки поступци су исти као код екстракције импактираних зуба, стим што се прекобројни зуби по правилу лакше ва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39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Уклањање сметњи за ницање стал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35" name="Date Placeholder 3"/>
          <p:cNvSpPr/>
          <p:nvPr/>
        </p:nvSpPr>
        <p:spPr>
          <a:xfrm>
            <a:off x="0" y="6424560"/>
            <a:ext cx="3906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E628-8891-435E-A5F8-648A0049DB0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433440" y="1671480"/>
            <a:ext cx="82407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C:\Users\Zoran\Downloads\oralna hirurgija\slike\images (10).jpg"/>
          <p:cNvPicPr/>
          <p:nvPr/>
        </p:nvPicPr>
        <p:blipFill>
          <a:blip r:embed="rId1"/>
          <a:stretch/>
        </p:blipFill>
        <p:spPr>
          <a:xfrm>
            <a:off x="1895400" y="2030400"/>
            <a:ext cx="511488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0" y="6424560"/>
            <a:ext cx="3782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23CB-07EF-4830-AFBB-647C3B8BF12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Уклањање сметњи за ницање стал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44" name="TextBox 9"/>
          <p:cNvSpPr/>
          <p:nvPr/>
        </p:nvSpPr>
        <p:spPr>
          <a:xfrm>
            <a:off x="420840" y="1697040"/>
            <a:ext cx="8205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УКЛАЊАЊЕ ОДОНТО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0" descr="C:\Users\Zoran\Downloads\oralna hirurgija\slike\download (36).jpg"/>
          <p:cNvPicPr/>
          <p:nvPr/>
        </p:nvPicPr>
        <p:blipFill>
          <a:blip r:embed="rId1"/>
          <a:stretch/>
        </p:blipFill>
        <p:spPr>
          <a:xfrm>
            <a:off x="625320" y="3089160"/>
            <a:ext cx="3910320" cy="2374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C:\Users\Zoran\Downloads\oralna hirurgija\slike\images (11).jpg"/>
          <p:cNvPicPr/>
          <p:nvPr/>
        </p:nvPicPr>
        <p:blipFill>
          <a:blip r:embed="rId2"/>
          <a:stretch/>
        </p:blipFill>
        <p:spPr>
          <a:xfrm>
            <a:off x="4906800" y="3097080"/>
            <a:ext cx="357048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3"/>
          <p:cNvSpPr/>
          <p:nvPr/>
        </p:nvSpPr>
        <p:spPr>
          <a:xfrm>
            <a:off x="0" y="6424560"/>
            <a:ext cx="3836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BB70-00BE-4914-AE1D-A924C05DA96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53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Уклањање сметњи за ницање стал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pic>
        <p:nvPicPr>
          <p:cNvPr id="151" name="Picture 8" descr="C:\Users\Zoran\Downloads\oralna hirurgija\slike\phoca_thumb_m_1. tiny teeth grouped together, blocking the cuspid to erupt.jpg"/>
          <p:cNvPicPr/>
          <p:nvPr/>
        </p:nvPicPr>
        <p:blipFill>
          <a:blip r:embed="rId1"/>
          <a:stretch/>
        </p:blipFill>
        <p:spPr>
          <a:xfrm>
            <a:off x="679320" y="2279520"/>
            <a:ext cx="2914920" cy="2914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C:\Users\Zoran\Downloads\oralna hirurgija\slike\phoca_thumb_m_2. surgical removal of compound odontoma and placement of bracket for orthodontic treatment.jpg"/>
          <p:cNvPicPr/>
          <p:nvPr/>
        </p:nvPicPr>
        <p:blipFill>
          <a:blip r:embed="rId2"/>
          <a:stretch/>
        </p:blipFill>
        <p:spPr>
          <a:xfrm>
            <a:off x="4842000" y="2338560"/>
            <a:ext cx="2700360" cy="27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3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6F0D-C792-4760-A548-D4FAAC1C08E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Уклањање сметњи за ницање стал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57" name="TextBox 6"/>
          <p:cNvSpPr/>
          <p:nvPr/>
        </p:nvSpPr>
        <p:spPr>
          <a:xfrm>
            <a:off x="1166760" y="194940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0" descr="C:\Users\Zoran\Downloads\oralna hirurgija\slike\phoca_thumb_m_3. placement of chain elastic to initially extrude  the cuspid.jpg"/>
          <p:cNvPicPr/>
          <p:nvPr/>
        </p:nvPicPr>
        <p:blipFill>
          <a:blip r:embed="rId1"/>
          <a:stretch/>
        </p:blipFill>
        <p:spPr>
          <a:xfrm>
            <a:off x="1015920" y="2230560"/>
            <a:ext cx="3203640" cy="3205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C:\Users\Zoran\Downloads\oralna hirurgija\slike\phoca_thumb_m_5.compound odontoma.jpg"/>
          <p:cNvPicPr/>
          <p:nvPr/>
        </p:nvPicPr>
        <p:blipFill>
          <a:blip r:embed="rId2"/>
          <a:stretch/>
        </p:blipFill>
        <p:spPr>
          <a:xfrm>
            <a:off x="4986360" y="2387520"/>
            <a:ext cx="2987640" cy="29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3"/>
          <p:cNvSpPr/>
          <p:nvPr/>
        </p:nvSpPr>
        <p:spPr>
          <a:xfrm>
            <a:off x="0" y="6424560"/>
            <a:ext cx="3865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4B24-AF24-4907-94A7-979F56BF741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6154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ретман неизниклих стал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396720" y="2346480"/>
            <a:ext cx="826632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ависи првенствено од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а ли је појава унилатерална или билатерал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а ли је положај клице нормал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ком обиму је формиран његов кор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Date Placeholder 3"/>
          <p:cNvSpPr/>
          <p:nvPr/>
        </p:nvSpPr>
        <p:spPr>
          <a:xfrm>
            <a:off x="0" y="6424560"/>
            <a:ext cx="3865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95B3-31A2-4FE0-9730-4E06819DBF4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ађење зуба у склопу ортодонтског лечењ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457200" y="1720800"/>
            <a:ext cx="8242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ађење зуба у склопу ортодонтског лечења је један од најчешћих видова хируршке терапије, било да се ради о млечним или сталним зуб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ађење зуба није само по себи циљ, већ је основа за почетак рада ортодонта, који увек индивидуално , појединачно за сваког пацијента, одлучује које зубе и када треба вади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није се препоручивало тзв. системско вађење зуба, што је значило вађење четири истоимена зуба, најчешње првих сталних мола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анас је општеприхваћена  тзв. дозирана екстракција зуба, којом се ваде поједини зуби у зависности од локалног нал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6168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ретман неизниклих стал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66" name="Date Placeholder 3"/>
          <p:cNvSpPr/>
          <p:nvPr/>
        </p:nvSpPr>
        <p:spPr>
          <a:xfrm>
            <a:off x="0" y="6424560"/>
            <a:ext cx="3768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9D02-8E8B-4BD8-BE1F-943D44F9B57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457200" y="1708200"/>
            <a:ext cx="8182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Индикације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за примену хируршко-ортодонтског третмана неизниклих зуба треба поставити ако су испуњени следећи услов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лечни зуб је одсутан, а стални заменик се није појавио у зубном низу 6 месеци до 1 године после времена његовог ниц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тг прегледом је утврђено присуство неизниклог сталног зуба који је у релативно повољном положа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зубном низу има довољно простора за смештање сталног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3"/>
          <p:cNvSpPr/>
          <p:nvPr/>
        </p:nvSpPr>
        <p:spPr>
          <a:xfrm>
            <a:off x="0" y="6424560"/>
            <a:ext cx="3962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2F48-5D3E-4190-9622-CC4D2A8D608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553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ретман неизниклих стал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pic>
        <p:nvPicPr>
          <p:cNvPr id="174" name="Picture 8" descr="C:\Users\Zoran\Downloads\oralna hirurgija\slike\images (10).jpg"/>
          <p:cNvPicPr/>
          <p:nvPr/>
        </p:nvPicPr>
        <p:blipFill>
          <a:blip r:embed="rId1"/>
          <a:stretch/>
        </p:blipFill>
        <p:spPr>
          <a:xfrm>
            <a:off x="2243160" y="2103480"/>
            <a:ext cx="4446720" cy="33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ађење зуба у склопу ортодонтског лечењ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67" name="Date Placeholder 3"/>
          <p:cNvSpPr/>
          <p:nvPr/>
        </p:nvSpPr>
        <p:spPr>
          <a:xfrm>
            <a:off x="0" y="6424560"/>
            <a:ext cx="3824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98CB-84E4-4B65-8715-31EC19E8620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444600" y="1432080"/>
            <a:ext cx="8194680" cy="48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ађењем зуба се ствара простор за ницање неизниклих зуба или померање зуба који се већналазе у зубном лу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ндикације за вађење зуба из ортодонтских разлога су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зражена тескоба и ускост вил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есклад између величина зубних лу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енормална величина и облик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чување симетрије у зубним луковима и усклађивање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клузалних  одно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акаснело ортодонтско лечење фиксним апарат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ађење зуба у склопу ортодонтског лечењ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72" name="Date Placeholder 3"/>
          <p:cNvSpPr/>
          <p:nvPr/>
        </p:nvSpPr>
        <p:spPr>
          <a:xfrm>
            <a:off x="0" y="6424560"/>
            <a:ext cx="3768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E5A2-3B66-4854-B164-F4C34318008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433440" y="1407960"/>
            <a:ext cx="82296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и планирању и екстракцији зуба треба познавати неке опште принципе на којима се заснива ортодонтско лечењ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бично се екстракција планира пре ницања суседних зуба, чиме се ствара празан простор ка ком се усмерава њихово ницањ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времено вађење зуба има негативне последице: суседни зуби се померају ка празном простору и ствара се нова малоклуз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езијална померања су већа у односу на дистал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ко су зуби израсли, израженије је нагињање и то више у горњој  него у доњој вилиц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спех је сигурнији ако зуби које треба померити у празан простор, немају завршен раст кор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4680" y="145800"/>
            <a:ext cx="844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ађење зуба у склопу ортодонтског лечењ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77" name="Date Placeholder 3"/>
          <p:cNvSpPr/>
          <p:nvPr/>
        </p:nvSpPr>
        <p:spPr>
          <a:xfrm>
            <a:off x="0" y="6424560"/>
            <a:ext cx="3795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2F9A-B151-42D1-82EC-49BCB63170F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444600" y="1720800"/>
            <a:ext cx="8218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ВАЂЕЊЕ ПОЈЕДИНИХ СТАЛНИХ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Palatino Linotype"/>
              </a:rPr>
              <a:t>Секутићи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се врло ретко ваде. Код анодонције латералног секутића на једној и његове хиподонције на другој страни вади се атипични зуб, чиме се ствара простор за несметано ницање очњака и његово постављање уз централни секутић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Palatino Linotype"/>
              </a:rPr>
              <a:t>Очњаци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се, такође изузетно ретко ваде, пошто су они врло значајни из функционалних и естетских разлога. Најчешће се ваде ако су ван зубног низа или ако су импактирани у неповољном положају, тако да покушај њиховог исправљања нема много изгледа да буде успешан (круна постављена дистално а корен мезијалн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ађење зуба у склопу ортодонтског лечењ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82" name="Date Placeholder 3"/>
          <p:cNvSpPr/>
          <p:nvPr/>
        </p:nvSpPr>
        <p:spPr>
          <a:xfrm>
            <a:off x="0" y="6424560"/>
            <a:ext cx="3824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B40A-ADF6-495C-AC64-25FBE7EBC5D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80960" y="1407960"/>
            <a:ext cx="8145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Palatino Linotype"/>
              </a:rPr>
              <a:t>Први премолари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е најчешће ваде у склопу хируршко- ортодонтског лечења. Ови зуби се углавном ваде када постоји изразита тескоба у фронту ии у пределу премолара, неке аномалије друге класе или бимаксиларна протруз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Palatino Linotype"/>
              </a:rPr>
              <a:t>Други премолари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у индиковани за вађење уколико се налазе ван зубног лука ( палатинално или лингвално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Palatino Linotype"/>
              </a:rPr>
              <a:t>Први молар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век треба чувати кад је то могуће, јер овај зуб има велики утицај на раст вилице и очување загрижа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 одлуку о екстракцији овог зуба велики утицај има стање клице умња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Palatino Linotype"/>
              </a:rPr>
              <a:t>Трећи молар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е зуб који се често вади, нарочито због недостатка простора у вилиц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ађење зуба у склопу ортодонтског лечењ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87" name="Date Placeholder 3"/>
          <p:cNvSpPr/>
          <p:nvPr/>
        </p:nvSpPr>
        <p:spPr>
          <a:xfrm>
            <a:off x="0" y="6424560"/>
            <a:ext cx="3809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Oralna hirurgi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2D82-59C8-4D82-87C3-5C0F942962C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444600" y="1636560"/>
            <a:ext cx="81946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РОФИЛАКТИЧККО ВАЂЕЊЕ КЛИЦА НЕИЗНИКЛИХ УМЊА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( ЖЕРМЕКТОМИЈА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Жермектомија је хируршки метод уклањања клице неизниклог зуба, који се у целости налази у 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ва интервенција је индикована у склопу ортодонтског лечења јер се сматра да ови зуби стварају силу управљену унапред која изазива, или погоршава већ постојећу тескобу зубног ни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Palatino Linotype"/>
              </a:rPr>
              <a:t>Рана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жерметомија – пре калцификације круне и коренова, у периоду између 10. и 11. год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Palatino Linotype"/>
              </a:rPr>
              <a:t>Касна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жермектомија – круна зуба је формирана , али пре калцификације корена (мизмеђу 15. и 18. године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0" y="6424560"/>
            <a:ext cx="3824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8412-A43F-4AFE-81E9-160C300CCB1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740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рекција дијастеме стал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444600" y="1647720"/>
            <a:ext cx="8170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ијастема представља повећан простор ( размак ) између зуб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јчешће се запажа између централних горњих секутића –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дијастема медијана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C:\Users\Zoran\Downloads\oralna hirurgija\slike\imagesCA61LY6N.jpg"/>
          <p:cNvPicPr/>
          <p:nvPr/>
        </p:nvPicPr>
        <p:blipFill>
          <a:blip r:embed="rId1"/>
          <a:stretch/>
        </p:blipFill>
        <p:spPr>
          <a:xfrm>
            <a:off x="1136520" y="3049560"/>
            <a:ext cx="2808360" cy="2808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C:\Users\Zoran\Downloads\oralna hirurgija\slike\download (34).jpg"/>
          <p:cNvPicPr/>
          <p:nvPr/>
        </p:nvPicPr>
        <p:blipFill>
          <a:blip r:embed="rId2"/>
          <a:stretch/>
        </p:blipFill>
        <p:spPr>
          <a:xfrm>
            <a:off x="4649760" y="3149640"/>
            <a:ext cx="3538440" cy="26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3"/>
          <p:cNvSpPr/>
          <p:nvPr/>
        </p:nvSpPr>
        <p:spPr>
          <a:xfrm>
            <a:off x="0" y="6424560"/>
            <a:ext cx="37400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E87A-62EC-4EB3-ACF4-0A020FDFCE8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70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рекција дијастеме стал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pic>
        <p:nvPicPr>
          <p:cNvPr id="102" name="Picture 7" descr="C:\Users\Zoran\Downloads\oralna hirurgija\slike\download (32).jpg"/>
          <p:cNvPicPr/>
          <p:nvPr/>
        </p:nvPicPr>
        <p:blipFill>
          <a:blip r:embed="rId1"/>
          <a:stretch/>
        </p:blipFill>
        <p:spPr>
          <a:xfrm>
            <a:off x="698400" y="2563920"/>
            <a:ext cx="3640320" cy="2411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C:\Users\Zoran\Downloads\oralna hirurgija\slike\download (33).jpg"/>
          <p:cNvPicPr/>
          <p:nvPr/>
        </p:nvPicPr>
        <p:blipFill>
          <a:blip r:embed="rId2"/>
          <a:stretch/>
        </p:blipFill>
        <p:spPr>
          <a:xfrm>
            <a:off x="5688000" y="2452680"/>
            <a:ext cx="2395440" cy="31687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8"/>
          <p:cNvSpPr/>
          <p:nvPr/>
        </p:nvSpPr>
        <p:spPr>
          <a:xfrm>
            <a:off x="444600" y="1479600"/>
            <a:ext cx="81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зрок дијастеме може да буде и постојање мезиоден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20:52:51Z</dcterms:created>
  <dc:creator>Каја</dc:creator>
  <dc:description/>
  <dc:language>en-US</dc:language>
  <cp:lastModifiedBy>Korisnik</cp:lastModifiedBy>
  <dcterms:modified xsi:type="dcterms:W3CDTF">2019-09-09T16:39:56Z</dcterms:modified>
  <cp:revision>1557</cp:revision>
  <dc:subject/>
  <dc:title>NAZIV PREDAVANJA</dc:title>
</cp:coreProperties>
</file>